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E1F-3DEB-4946-8B5D-712C1750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7FD-BFBC-4CEE-A82C-29381CBA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6C3-D5AC-44E7-B41A-5657E061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E36C-B446-44C5-A9E6-4D0F9D78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C5B-E835-4A36-8C90-194B172B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720F-BF5A-41E3-A298-4E0A5BD0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1384-0349-4B15-BDC0-282E6A53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D5C8-3E5E-47DD-BDB1-AE1A6631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B8D8-4B56-4822-B654-4C01F9DC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C628-722B-4ADA-82E2-691F5B69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C7F-8352-4C6E-885C-AEDE174E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A08-55FF-4A76-B6C2-08BA3C7B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5613-2CCD-4ADC-8B0A-C3D314346CA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486247_10151306448761133_455982672_n"/>
          <p:cNvPicPr/>
          <p:nvPr/>
        </p:nvPicPr>
        <p:blipFill>
          <a:blip r:embed="rId1"/>
          <a:stretch/>
        </p:blipFill>
        <p:spPr>
          <a:xfrm>
            <a:off x="457200" y="-76320"/>
            <a:ext cx="8381880" cy="699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stylegods.com/wp-content/uploads/2012/1920s-advertisements-cigarettes-i6.jpg"/>
          <p:cNvPicPr/>
          <p:nvPr/>
        </p:nvPicPr>
        <p:blipFill>
          <a:blip r:embed="rId1"/>
          <a:stretch/>
        </p:blipFill>
        <p:spPr>
          <a:xfrm>
            <a:off x="1981080" y="-33480"/>
            <a:ext cx="5486400" cy="70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bc.lung.ca/mediaroom/news_releases/images/Lucky-Strike-Youll-Never-Miss-Sweets-Small.jpg"/>
          <p:cNvPicPr/>
          <p:nvPr/>
        </p:nvPicPr>
        <p:blipFill>
          <a:blip r:embed="rId1"/>
          <a:stretch/>
        </p:blipFill>
        <p:spPr>
          <a:xfrm>
            <a:off x="2514600" y="-6480"/>
            <a:ext cx="5067360" cy="707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smart-kit.com/wp-content/uploads/2007/03/cigarette-doc-one-small.jpg"/>
          <p:cNvPicPr/>
          <p:nvPr/>
        </p:nvPicPr>
        <p:blipFill>
          <a:blip r:embed="rId1"/>
          <a:stretch/>
        </p:blipFill>
        <p:spPr>
          <a:xfrm>
            <a:off x="2362320" y="12600"/>
            <a:ext cx="47242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yiv2445558309MA1.1367592247" descr="41AA35C6147740CE82B60656C1AB427D@xpe831214a0cf8"/>
          <p:cNvPicPr/>
          <p:nvPr/>
        </p:nvPicPr>
        <p:blipFill>
          <a:blip r:embed="rId1"/>
          <a:stretch/>
        </p:blipFill>
        <p:spPr>
          <a:xfrm>
            <a:off x="1828800" y="6480"/>
            <a:ext cx="5867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Children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yiv2445558309MA12.1367592247" descr="DADBA4EFE93245F9AD031AD9891EA105@xpe831214a0cf8"/>
          <p:cNvPicPr/>
          <p:nvPr/>
        </p:nvPicPr>
        <p:blipFill>
          <a:blip r:embed="rId1"/>
          <a:stretch/>
        </p:blipFill>
        <p:spPr>
          <a:xfrm>
            <a:off x="0" y="131760"/>
            <a:ext cx="914400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file.vintageadbrowser.com/l-l25ih4ew7w1dre.jpg"/>
          <p:cNvPicPr/>
          <p:nvPr/>
        </p:nvPicPr>
        <p:blipFill>
          <a:blip r:embed="rId1"/>
          <a:stretch/>
        </p:blipFill>
        <p:spPr>
          <a:xfrm>
            <a:off x="2362320" y="0"/>
            <a:ext cx="445932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57200" y="12600"/>
            <a:ext cx="83311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07732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yiv2445558309MA2.1367592247" descr="A37EA79B1FDF4A42AEAC1E02E0618F48@xpe831214a0cf8"/>
          <p:cNvPicPr/>
          <p:nvPr/>
        </p:nvPicPr>
        <p:blipFill>
          <a:blip r:embed="rId1"/>
          <a:stretch/>
        </p:blipFill>
        <p:spPr>
          <a:xfrm>
            <a:off x="1905120" y="0"/>
            <a:ext cx="541008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415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mbria"/>
              </a:rPr>
              <a:t>Advertisements of the 1920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Men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file.vintageadbrowser.com/cstl7iho74eyrc.jpg"/>
          <p:cNvPicPr/>
          <p:nvPr/>
        </p:nvPicPr>
        <p:blipFill>
          <a:blip r:embed="rId1"/>
          <a:stretch/>
        </p:blipFill>
        <p:spPr>
          <a:xfrm>
            <a:off x="1752480" y="14400"/>
            <a:ext cx="52578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mindventurepictures.com/wp-content/upgrade/funny-1920s-advertisements-i5.jpg"/>
          <p:cNvPicPr/>
          <p:nvPr/>
        </p:nvPicPr>
        <p:blipFill>
          <a:blip r:embed="rId1"/>
          <a:stretch/>
        </p:blipFill>
        <p:spPr>
          <a:xfrm>
            <a:off x="2895480" y="-152280"/>
            <a:ext cx="4457880" cy="71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file.vintageadbrowser.com/r9cb3jlyou53k8.jpg"/>
          <p:cNvPicPr/>
          <p:nvPr/>
        </p:nvPicPr>
        <p:blipFill>
          <a:blip r:embed="rId1"/>
          <a:stretch/>
        </p:blipFill>
        <p:spPr>
          <a:xfrm>
            <a:off x="2209680" y="27000"/>
            <a:ext cx="472464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img.weburbanist.com/wp-content/uploads/2010/06/1920s-Diet-Ads.gif"/>
          <p:cNvPicPr/>
          <p:nvPr/>
        </p:nvPicPr>
        <p:blipFill>
          <a:blip r:embed="rId1"/>
          <a:stretch/>
        </p:blipFill>
        <p:spPr>
          <a:xfrm>
            <a:off x="379440" y="30240"/>
            <a:ext cx="861228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Women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yiv2445558309MA17.1367592247" descr="75A867BC69C241EB926E2247E5276A27@xpe831214a0cf8"/>
          <p:cNvPicPr/>
          <p:nvPr/>
        </p:nvPicPr>
        <p:blipFill>
          <a:blip r:embed="rId1"/>
          <a:stretch/>
        </p:blipFill>
        <p:spPr>
          <a:xfrm>
            <a:off x="2057400" y="0"/>
            <a:ext cx="551484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yiv2445558309MA11.1367592247" descr="E212D78178784754A33838FE927E9129@xpe831214a0cf8"/>
          <p:cNvPicPr/>
          <p:nvPr/>
        </p:nvPicPr>
        <p:blipFill>
          <a:blip r:embed="rId1"/>
          <a:stretch/>
        </p:blipFill>
        <p:spPr>
          <a:xfrm>
            <a:off x="2514600" y="-133200"/>
            <a:ext cx="4572000" cy="70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cw.routledge.com/textbooks/9780415886796/images/chapter4/figure4-5.jpg"/>
          <p:cNvPicPr/>
          <p:nvPr/>
        </p:nvPicPr>
        <p:blipFill>
          <a:blip r:embed="rId1"/>
          <a:stretch/>
        </p:blipFill>
        <p:spPr>
          <a:xfrm>
            <a:off x="2992320" y="-6480"/>
            <a:ext cx="325620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yiv2445558309MA6.1367592247" descr="065700B9D4074E93B6C0D0825931BC32@xpe831214a0cf8"/>
          <p:cNvPicPr/>
          <p:nvPr/>
        </p:nvPicPr>
        <p:blipFill>
          <a:blip r:embed="rId1"/>
          <a:stretch/>
        </p:blipFill>
        <p:spPr>
          <a:xfrm>
            <a:off x="838080" y="0"/>
            <a:ext cx="77724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National Brands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10" descr=""/>
          <p:cNvPicPr/>
          <p:nvPr/>
        </p:nvPicPr>
        <p:blipFill>
          <a:blip r:embed="rId1"/>
          <a:stretch/>
        </p:blipFill>
        <p:spPr>
          <a:xfrm>
            <a:off x="2209680" y="0"/>
            <a:ext cx="48006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3.bp.blogspot.com/_iu5GayLzf-Y/SwyZtZkTThI/AAAAAAAAD9c/8ixhPQds174/s1600/universalmccnov1920.JPG"/>
          <p:cNvPicPr/>
          <p:nvPr/>
        </p:nvPicPr>
        <p:blipFill>
          <a:blip r:embed="rId1"/>
          <a:stretch/>
        </p:blipFill>
        <p:spPr>
          <a:xfrm>
            <a:off x="2185920" y="-60480"/>
            <a:ext cx="5052960" cy="760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pzrservices.typepad.com/vintageadvertising/images/2007/10/01/old_sexist_ad.jpg"/>
          <p:cNvPicPr/>
          <p:nvPr/>
        </p:nvPicPr>
        <p:blipFill>
          <a:blip r:embed="rId1"/>
          <a:stretch/>
        </p:blipFill>
        <p:spPr>
          <a:xfrm>
            <a:off x="2133720" y="-76320"/>
            <a:ext cx="5314680" cy="71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r more on the 1920s . . 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classzone.com/net_explorations/U7/U7_article1.cf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261584384_94d884040d_z"/>
          <p:cNvPicPr/>
          <p:nvPr/>
        </p:nvPicPr>
        <p:blipFill>
          <a:blip r:embed="rId1"/>
          <a:stretch/>
        </p:blipFill>
        <p:spPr>
          <a:xfrm>
            <a:off x="2286000" y="-228600"/>
            <a:ext cx="495288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924"/>
          <p:cNvPicPr/>
          <p:nvPr/>
        </p:nvPicPr>
        <p:blipFill>
          <a:blip r:embed="rId1"/>
          <a:stretch/>
        </p:blipFill>
        <p:spPr>
          <a:xfrm>
            <a:off x="2514600" y="-34920"/>
            <a:ext cx="4572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926"/>
          <p:cNvPicPr/>
          <p:nvPr/>
        </p:nvPicPr>
        <p:blipFill>
          <a:blip r:embed="rId1"/>
          <a:stretch/>
        </p:blipFill>
        <p:spPr>
          <a:xfrm>
            <a:off x="2057400" y="23760"/>
            <a:ext cx="541008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membres.multimania.fr/chewinggumworld/pub/WRIGLEY_The_flavor_taste_Ad_1920_copy.jpg"/>
          <p:cNvPicPr/>
          <p:nvPr/>
        </p:nvPicPr>
        <p:blipFill>
          <a:blip r:embed="rId1"/>
          <a:stretch/>
        </p:blipFill>
        <p:spPr>
          <a:xfrm>
            <a:off x="2133720" y="14400"/>
            <a:ext cx="495612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ts4.mm.bing.net/th?id=H.4855719097074859&amp;pid=15.1"/>
          <p:cNvPicPr/>
          <p:nvPr/>
        </p:nvPicPr>
        <p:blipFill>
          <a:blip r:embed="rId1"/>
          <a:stretch/>
        </p:blipFill>
        <p:spPr>
          <a:xfrm>
            <a:off x="1981080" y="-38160"/>
            <a:ext cx="54864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mrmorganperiod1.wikispaces.com/file/view/dbruthcola.jpg/103439127/dbruthcola.jpg"/>
          <p:cNvPicPr/>
          <p:nvPr/>
        </p:nvPicPr>
        <p:blipFill>
          <a:blip r:embed="rId1"/>
          <a:stretch/>
        </p:blipFill>
        <p:spPr>
          <a:xfrm>
            <a:off x="2133720" y="0"/>
            <a:ext cx="495288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9:32:06Z</dcterms:created>
  <dc:creator>LATHOMPS</dc:creator>
  <dc:description/>
  <dc:language>en-US</dc:language>
  <cp:lastModifiedBy>Vickie J. Dean</cp:lastModifiedBy>
  <cp:lastPrinted>2014-01-16T20:47:11Z</cp:lastPrinted>
  <dcterms:modified xsi:type="dcterms:W3CDTF">2014-01-16T20:47:50Z</dcterms:modified>
  <cp:revision>9</cp:revision>
  <dc:subject/>
  <dc:title>Advertisements of the 1920s</dc:title>
</cp:coreProperties>
</file>